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144-7986-465A-BEEE-437CEF5A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445-8BC9-432F-AF4B-7FF0A2DD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E9D-8F71-4D60-A8F7-15BF4E10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761-15D1-49E2-88F5-351FEF67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1448-91D3-4B90-9F09-4859E470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147C-FEC7-4437-976F-CFB7538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B79-5CD4-4848-B530-8CCB5556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0D59-441E-430F-A78A-5F2856A0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820-A733-4A37-908E-60E4F0FC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AAD5-6EFB-43E7-A51B-7D0C718A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AD51-97DF-4002-ACFE-68ADB74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6C4-DB3A-4CAF-B000-C2F6F901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59E5-1205-4584-A3B3-51BE6F2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BA8-F65F-4875-951E-27A79D5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2068-57A8-4699-BA55-AC69ADE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1E44-3BF4-46F4-9C65-C81F34BF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874-1181-4C92-B57D-8BFD8FEB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AAF-6324-4604-AC13-C6E2E664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D6C-2426-47C3-98B9-2D972463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8A2-E2C4-49C6-8A36-23074185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613-7E5A-48C2-8058-EB1CED1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D01-912E-48BA-97C5-F1AE433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B51-9D36-490D-B4A3-54D2B7A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E42-1258-42C2-AE0E-15684EC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26AF-7CC5-4B1F-9CB8-077EACCF1B6A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7C66-6AB5-4D83-A760-3A691E686A35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6thPeriodImoivesignup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720" y="838080"/>
            <a:ext cx="48765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iMovie In the Classroom: </a:t>
            </a:r>
            <a:r>
              <a:rPr b="1" lang="en-US" sz="3200" spc="-1" strike="noStrike">
                <a:solidFill>
                  <a:srgbClr val="272776"/>
                </a:solidFill>
                <a:latin typeface="Arial"/>
              </a:rPr>
              <a:t>Student made movies using iMovie software.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2640" y="3657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Arial"/>
              </a:rPr>
              <a:t>My “how-to” example on designing your own lesson: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What did I learn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s required very little training on a seemingly complicated program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I learned how to use iMovie in two hours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tting a benchmark timetable made the three week project manageable for students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pecific content requirements and vague project formats allowed students to express creativity in the movies while still conveying the information that I needed them to tell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Next time I will space out the project and have more work done outside of class (the research)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ow can you incorporate movies into your class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276360"/>
            <a:ext cx="7315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nd a few other teachers near you and share your ideas and thoughts!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2280" y="1981080"/>
          <a:ext cx="775944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981080"/>
                    <a:ext cx="77594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Why Use Movies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t’s the classic research report- with a twist!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llows many options for how information can be conveyed to the audience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Pictures and video clips from reference sourc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s can record themselves in pictures and video clips, starring them!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 can record voiceove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ritten subtitles and text included with the video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orks Cited info becomes scrolling credits!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Why Use Movies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creased versatility in lesson design: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Movies can serve as an introduction or sponge activity to new content material. 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an allow for application and synthesis of course material previously learned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e basic project design can be adapted to many different content area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Designing your lesson:</a:t>
            </a:r>
            <a:br>
              <a:rPr sz="4400"/>
            </a:b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Selecting the content/anchor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Remember that movies tell a story, select an anchor(s) that could be learned by storytelling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Use your assessment anchors to determine what information your students need to include in their movies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 started with a grading rubric to outline point values and required information students needed to have in their movies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My Movie Making Plan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85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ovie topics focus on natural disasters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e project was introduced more like a standard research project with a twist!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 gave students the introductory explanation of the project and clearly stated my expectations of the final product. I really emphasized content requirements the video had to contain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tudents selected a disaster that most interested them and posted it on the 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1"/>
              </a:rPr>
              <a:t>interactive whiteboard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. (Due after day 1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veral days were devoted to have students research their natural disaster topic. They found information, pictures or video to use in their video. (days 2-5)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6854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Tip: Simplify note taking by using an excel spreadsheet with three columns (information, pictures, and citations) that information is just cut and pasted in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4572000"/>
          <a:ext cx="7543800" cy="137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0"/>
                    <a:ext cx="7543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hinking about video production: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tudents compiled their research materials into a storyboard plan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I used blank PowerPoint 6-slide/page printou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toryboards and a script of their spoken or recorded segments were collected after the 6th work day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oth were checked before they could start video production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Lights, camera, ACTION!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ith very little actual training students were became directors of their own movies (Day 6-10)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Recording themselves in video clips (video cameras, or build-in laptop cameras)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Editing pictures, video clip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Making and editing voiceovers, background music, and build-in sound effects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mpleted movies are compressed into quick-time files and loaded onto a USB portable hard drive for submission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Sample of student work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4" name="Macintosh HD:Users:jshiffer:Desktop:SAN FRAN 1906.mov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3:43:56Z</dcterms:created>
  <dc:creator>PA Department of Education</dc:creator>
  <dc:description/>
  <dc:language>en-US</dc:language>
  <cp:lastModifiedBy>PA Department of Education</cp:lastModifiedBy>
  <dcterms:modified xsi:type="dcterms:W3CDTF">2008-03-04T03:22:12Z</dcterms:modified>
  <cp:revision>11</cp:revision>
  <dc:subject/>
  <dc:title>PowerPoint Presentation</dc:title>
</cp:coreProperties>
</file>